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0C8E-EB2E-4979-B116-39F094442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932D-20A0-4219-BD6C-0A71601D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2328-DFA0-44B4-B7EA-A06E205AB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8934-22B9-456E-8FA2-9AB63FABA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D72B-6FA3-46BD-B07A-14F60C554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2D91-08A2-4F3B-9BFC-47BFCDC1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E16E-24C5-4D32-9CB2-5266F4506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1C96-A5EF-4A39-BF2B-2F301E40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8E92-3792-4E9E-8B1A-66C27375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EEBC-A668-4DC3-A8BF-D88264D7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F705-F0FA-4B04-8082-A01E3787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B0FB-2062-4F52-BC97-6651F577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E097-6343-4F56-AF68-D0D703DF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436A-DE6F-4D44-B547-0423A346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005A-6625-4628-81AE-7E6FA4E7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092D-AA55-4675-894B-379008C3D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BC36-5141-422C-979C-5FC0F71C5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8392-EC8B-46BE-9D4E-2BDB0BC7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1AEB-1518-4FAB-A422-49DADD20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D8D9-51B9-41AC-B1FD-BA1D4BA9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9BCF-8C45-4FF6-AE16-714D6BBA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CD15-4555-4F79-B0E6-2927EEB9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64AC-9F9B-4A24-BE4C-C2C7CFDD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3B50-3AD3-45D8-AE62-03F3BDE6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5DAF-C105-46E8-9C14-A7248DAB6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2C81-ED2F-4B8E-993A-13B784DAD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Func</a:t>
            </a:r>
            <a:r>
              <a:rPr b="1" lang="ro-RO" sz="4400" spc="-1" strike="noStrike">
                <a:solidFill>
                  <a:srgbClr val="0000cc"/>
                </a:solidFill>
                <a:latin typeface="Comic Sans MS"/>
              </a:rPr>
              <a:t>ţ</a:t>
            </a: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ia de gradul 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765080" y="4400640"/>
            <a:ext cx="5684760" cy="574560"/>
          </a:xfrm>
          <a:prstGeom prst="rect">
            <a:avLst/>
          </a:prstGeom>
          <a:solidFill>
            <a:srgbClr val="e2a2dd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Comic Sans MS"/>
              </a:rPr>
              <a:t>Grafic,ecuaţii,inecuaţi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3333cc"/>
                </a:solidFill>
                <a:latin typeface="Comic Sans MS"/>
              </a:rPr>
              <a:t>Activitatea 1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4040" y="1952640"/>
            <a:ext cx="6699240" cy="26654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cc"/>
                </a:solidFill>
                <a:latin typeface="Times New Roman"/>
              </a:rPr>
              <a:t>Prezint PPS-ul de prezenta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26080" indent="-226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cc"/>
                </a:solidFill>
                <a:latin typeface="Times New Roman"/>
              </a:rPr>
              <a:t>Test iniţial-format fişă de lucr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26080" indent="-226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cc"/>
                </a:solidFill>
                <a:latin typeface="Times New Roman"/>
              </a:rPr>
              <a:t>împărţirea elevilor pe grup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26080" indent="-226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cc"/>
                </a:solidFill>
                <a:latin typeface="Times New Roman"/>
              </a:rPr>
              <a:t>Ofer elevilor broşura de proi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26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26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cc"/>
                </a:solidFill>
                <a:latin typeface="Comic Sans MS"/>
              </a:rPr>
              <a:t>Activitatea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Definirea funcţieie de gradul I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Trasarea graficului funcţiei de gradul I prin punctele de intersecţie cu axele de coordona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Interpretarea geometrică a soluţiei ecuaţiei de gradul I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Temă de cas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6870960" cy="160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o-RO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33cc"/>
                </a:solidFill>
                <a:latin typeface="Times New Roman"/>
              </a:rPr>
              <a:t>Graficul funcţiei de gradul I pe ramuri-exerciţii,fişe de lucru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33cc"/>
                </a:solidFill>
                <a:latin typeface="Times New Roman"/>
              </a:rPr>
              <a:t>Evaluare formativ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33cc"/>
                </a:solidFill>
                <a:latin typeface="Times New Roman"/>
              </a:rPr>
              <a:t>Monotonia funcţiei de gradul I-grafic şi cu ajutorul raportului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838080" y="0"/>
            <a:ext cx="7099560" cy="1371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o-RO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br>
              <a:rPr sz="4000"/>
            </a:br>
            <a:r>
              <a:rPr b="1" lang="ro-RO" sz="3600" spc="-1" strike="noStrike">
                <a:solidFill>
                  <a:srgbClr val="000000"/>
                </a:solidFill>
                <a:latin typeface="Comic Sans MS"/>
              </a:rPr>
              <a:t>ACTIVITATEA 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6870600" cy="6858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Comic Sans MS"/>
              </a:rPr>
              <a:t>Activitatea 4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Semnul funcţieie de gradul I,grafic şi algebri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Rezolvarea inecuaţiei de gradul I cu ajutorul semnului funcţiei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Aplicaţii în rezolvarea ecuaţiilor şi inecuaţiilor de gradul I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3008160" cy="59688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CTIVITATEA 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Substituent conținut 6" descr="000_0173.jpg"/>
          <p:cNvPicPr/>
          <p:nvPr/>
        </p:nvPicPr>
        <p:blipFill>
          <a:blip r:embed="rId1"/>
          <a:stretch/>
        </p:blipFill>
        <p:spPr>
          <a:xfrm>
            <a:off x="3575160" y="1282680"/>
            <a:ext cx="5111640" cy="3834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2743200" cy="3810240"/>
          </a:xfrm>
          <a:prstGeom prst="rect">
            <a:avLst/>
          </a:prstGeom>
          <a:solidFill>
            <a:srgbClr val="7f0000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Test formativ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Rezolvarea sistemelor e ecuaţii de gradul I grafi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Conector drept 8"/>
          <p:cNvSpPr/>
          <p:nvPr/>
        </p:nvSpPr>
        <p:spPr>
          <a:xfrm>
            <a:off x="1371600" y="4343400"/>
            <a:ext cx="914400" cy="914400"/>
          </a:xfrm>
          <a:prstGeom prst="line">
            <a:avLst/>
          </a:prstGeom>
          <a:ln w="9360">
            <a:solidFill>
              <a:srgbClr val="fded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Conector drept 15"/>
          <p:cNvSpPr/>
          <p:nvPr/>
        </p:nvSpPr>
        <p:spPr>
          <a:xfrm flipV="1">
            <a:off x="1600200" y="4495680"/>
            <a:ext cx="1143000" cy="609840"/>
          </a:xfrm>
          <a:prstGeom prst="line">
            <a:avLst/>
          </a:prstGeom>
          <a:ln w="9360">
            <a:solidFill>
              <a:srgbClr val="fded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7" name="Conector drept cu săgeată 25"/>
          <p:cNvCxnSpPr/>
          <p:nvPr/>
        </p:nvCxnSpPr>
        <p:spPr>
          <a:xfrm flipV="1">
            <a:off x="1749960" y="3201120"/>
            <a:ext cx="3960" cy="2134440"/>
          </a:xfrm>
          <a:prstGeom prst="straightConnector1">
            <a:avLst/>
          </a:prstGeom>
          <a:ln w="9360">
            <a:solidFill>
              <a:srgbClr val="fded60"/>
            </a:solidFill>
            <a:miter/>
            <a:tailEnd len="med" type="arrow" w="med"/>
          </a:ln>
        </p:spPr>
      </p:cxnSp>
      <p:cxnSp>
        <p:nvCxnSpPr>
          <p:cNvPr id="168" name="Conector drept cu săgeată 28"/>
          <p:cNvCxnSpPr/>
          <p:nvPr/>
        </p:nvCxnSpPr>
        <p:spPr>
          <a:xfrm>
            <a:off x="1294920" y="4723920"/>
            <a:ext cx="1753560" cy="2520"/>
          </a:xfrm>
          <a:prstGeom prst="straightConnector1">
            <a:avLst/>
          </a:prstGeom>
          <a:ln w="9360">
            <a:solidFill>
              <a:srgbClr val="fded60"/>
            </a:solidFill>
            <a:miter/>
            <a:tailEnd len="med" type="arrow" w="med"/>
          </a:ln>
        </p:spPr>
      </p:cxnSp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ACTIVITATEA 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Substituent imagine 4" descr="Picture 162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solidFill>
            <a:srgbClr val="ffe60d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zolvara sistemelor de inecuaţii de gradul I grafi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ţi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3:43:16Z</dcterms:created>
  <dc:creator>ws23</dc:creator>
  <dc:description/>
  <dc:language>en-US</dc:language>
  <cp:lastModifiedBy>vio</cp:lastModifiedBy>
  <dcterms:modified xsi:type="dcterms:W3CDTF">2010-01-21T07:36:56Z</dcterms:modified>
  <cp:revision>10</cp:revision>
  <dc:subject/>
  <dc:title>Funcţia de gradul I</dc:title>
</cp:coreProperties>
</file>